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95DA77-249D-4B83-A3C5-2977E5279CE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8ABB4D-7974-4400-8191-AA7BCACED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5FB6EA-EB11-4B84-A2D4-BB061DC9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4B2E8E-18B4-4DEA-BF51-EA76E9C1F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72CCCF-2FED-4251-A3F0-0601368DE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462437-D9E5-4E86-905E-28E582478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DA8E97-3760-465A-8279-5773E49EC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816744-FE6E-4B3E-A7FE-2A3C5AC8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A399BB-1974-4198-81CE-DE4046AF5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23F135-FDA3-4B62-A235-0167B4531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21D7E0-509F-4085-A162-40B70E0BE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077583-78CE-43EE-8BB8-0B00173F4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2F14-A928-4197-805E-7F6A7044C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D3A9-5DED-4488-A345-B3AA3D44E69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D52D0-4756-4793-8B75-C8C84C2E586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41AC-449A-429A-B4F3-5DC6284A72D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C72B-5153-44F2-A437-C22C662041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F6B3-37F0-4BCF-93E0-6A8218A444E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2976-906F-4BCF-B6A9-A473BED16A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321D-7B21-479B-BEB9-8EA2DD47228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C37C-BE91-48F7-92D2-4563A710D62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9FEB-8AFA-4AE7-8083-E346B8D0BB2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45E3-C329-47BA-9E04-3DA0BC512E4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E5DE1-53E2-43D8-8D38-AB77E2007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D074-6DC3-4481-AFBF-EB2FDE6F14E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9F7B9-4E8C-441F-ABEE-0B9AD18455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87E2E-C5C2-43E3-BCB6-E274BF1BDD0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8E055-4256-40FE-BF0B-C3507C8E6CF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60AF9-85D2-44D0-8BBC-E6908A9B74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D1E1C-81E4-47D7-9F4A-B1C59FB9B4C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9B7EB-F10F-4276-8B5E-23473B01C9C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93624-5C81-4548-85D9-B3DB18919FD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EE98B-483B-4BBD-B0CD-DC56AAF0E63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D226C-2512-4B82-827E-87A0A3789A5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B0C8F-B233-4FDB-A1B4-AF98ACDF6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27EA-1D2D-44D2-9EA4-082BF976F1B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6318D5-3D91-486D-9844-3FCD8DE21B8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4B937-B17D-4794-9A11-BA302F0453B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F6E02-6F86-46AF-857D-51E62620161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5A306-F6B3-43D3-A8CB-43E2D25BC09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D4E96-AD85-4E48-BC02-78A306E153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C224F-F380-4F8F-8A78-805F998C71D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A6B6C-EB4B-413C-9C82-7A15DF01B7E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00FBE-8D61-4814-BAE7-F21C873A515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17F3A-EE21-4723-BA2D-5E6CCB5B217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0D550-FD13-4EE6-86E2-25A0E49EA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96FD-C766-4380-B76C-23A19FA2CE7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16DE3-05CE-403F-80FA-471816AA4A0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11895-9556-43BD-9B76-D724949A45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051C0-B41D-4189-B947-92D010B1CDC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A6AC-8220-4ACD-AE5B-475FDDDF0A2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DAA96-41A3-4CDE-A217-C34C0968A8D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D3C1-8ED1-47BD-9445-67BA4C71E8C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4B3E-CEAB-4C4D-81B4-1BF286D5A3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9D39-3E36-45C2-AB2A-37D365B922F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1ED3-8532-411E-9919-7DB420499F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BF8FE-398A-4276-9FE5-5E97782322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B096-720A-4DAC-AB9E-86B689096B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A1CC4-5D6D-42A0-B71E-D7B6E27694E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21F8-4502-4E46-BE1A-B93930AAFF1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5B89-D06D-4E30-92D4-AA9AB08DA16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56FF-712E-4A14-B2F3-D601BFE93F3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C9D7-E957-44B7-967A-F322D5F342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D6514-CDA4-4EA6-81FA-F57B37929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473D1-2972-40C3-A738-A7C8C7F2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3591B-1335-447A-AABD-5A1AF43D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98B18-D52A-421C-9BE1-0C3EAC9E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AD0D3-47B9-4ED7-B361-C1AE487E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5050-7390-4C30-8DDF-1BF78B1F99B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4495A-3C80-426D-8105-E53B992C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B8585-A336-4E0E-B5A2-06B78758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08E07-E675-4793-8EF2-9225A483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14CB3-09B6-461C-83C4-79D2670A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8766B-020E-4A36-9CB3-4B030123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47637-FB8E-4B3E-861F-37EFD89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55221-E8AC-4FB7-829E-368F606847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0DDD-3857-4D86-AD0F-88C2762977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AE6A-7243-405F-A67E-8DA2CCC26D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ED8F-7886-48EE-AEFC-B6ADA3D402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CD76-8819-4A4A-B0D5-0674A20AA5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264C-D526-438A-A31F-E15149A01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9AC9-92D2-41C3-9750-EAAA01B567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0F12-0F6E-4D8B-8F22-6E7B398984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7C8F-E7F7-4561-A3E2-9F43B399CF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3668-B386-4CBF-9DC4-B5DB54003A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78D2-2092-4660-A1FD-82AD3FE056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372-768A-4346-A5DB-D8AF547B2D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99A-5744-4C5A-A3D6-9E2D8DCEEF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F04-96F6-41D5-994D-1EA5B330B6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7B8-A255-46D5-9852-6128378FA2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283-5E8F-4C79-A15E-3EA5A8966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4194-2504-48F0-B8E9-29A43C1052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14D-2D22-4BCD-AF7E-5432E06867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32B-7CA8-483F-B8FD-7F4CDA1F14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09B-62AE-42AB-86C9-9D3C75B544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A2D-E518-45F8-92E9-7BEC8E56F2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F72-C726-471D-ACFB-B48E608768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92C-13C4-42B9-A52A-072BB14207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C5B-7A40-453A-8B4F-F7BD05AC41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CEC1A-7175-480B-8AB2-8AE4EE3D71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246F4-4CC6-44C7-96A1-08757663D7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CDF64-F528-4126-8CF7-105AEE4E3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0B4B-E628-4548-84CB-4B62B8A282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B0B00-CDB2-430A-8D0F-C02E0DB116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32421-062E-47C8-A6CE-204406E45E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10CBF-6B1F-4687-A524-D6508414AB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E9654-15AE-45E7-8AE3-079DE77176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13E60-DEE8-437E-ABFE-B13C6A11D6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ED9DF-A992-44B4-AB5F-C08C533E64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6579C-722B-4A15-B307-A99B9E313E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77730-286B-4D55-930D-1F0F42FE24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0A389-CA4C-47A7-A73A-5D98CD09563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52FD4-6ACB-4036-8CA3-550151571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8B0E-B9FF-44EB-A37B-7F3FC75412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BD2AA-7381-40F6-8228-94FFBD0A13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553B1-D8B2-4F09-8A05-C24BC4AEEC4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D93E2-907C-4800-874B-C5F6E5263A4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6C318-740B-4FC0-92FF-A5F408B8F6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9F9CC-A201-4581-BC17-EDEABF18C7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BD2F4-4B03-4B08-88DD-2177B98E504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29880-24FB-4EB0-9724-6873A388F0A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A627E-638D-426E-8B65-35C49F4D637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6CF20-AE53-49A5-A271-231087583A6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39A24-BAC9-4442-B395-7814F3A1C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ED2F-CC98-4661-8A12-F998E2300D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69D5B-2B18-45AC-B791-2B6B49AE1A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BA8F-DC9E-4D5D-8408-452324EB7CE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93BC-885D-4B6E-AA0A-2874A7E5755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38F3-9B2F-4953-BE0D-F325F07E41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F82A-D204-4B4C-9DC9-1D374B2240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9BFD-3592-4786-A169-6E65C90496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A3C3-1093-4518-9A4D-1730412986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DFF-7A8E-4326-AF01-010E0B7DAD1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A21C-B829-4489-B5F0-A06DE1709F0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17FA-B126-443D-8905-23E49E389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30E4-0638-4C80-84E6-E0846E0139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BC06-22AA-4AE2-AEE6-6C0ECEB85B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2F99-63F6-4A89-9317-CE79851F2A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8D18-CAA1-4F47-8C0E-9319604192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C6295-5635-459D-9902-A33BFD19DDD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62264-A177-490F-BFF8-D7BF7D981A7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9F628-C20B-4AB9-BBA7-7D7925ED2FD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B363C-9BB4-4350-8EDE-00FB972208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C4D8A-6CC6-4B50-AC28-3835EECABD3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24F09-8B5E-43AC-83E4-0C9B301829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5B659-3317-4F98-8CDC-01D52EC19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1A2F-2409-44EE-9A50-3A8DA23EC55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05C497-3A44-4222-B119-942885E1CD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F4041-9037-4511-A3A6-D1E3FEBFF9C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776CD-7FB0-4730-8B08-D28B93F341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ABED1-C314-4E96-83C7-338E11C21F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B6952-1895-425F-884F-46DE38F369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0618E-4DA5-4095-8DB4-9665429A32E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F0BDB-2E8F-46DE-A438-4B44789B8C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CA81F-00B3-4809-9AE5-C03F4DD76B4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49773-E1AC-4DCA-8121-7E6C3964ECB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20431-94B7-4495-80D9-C786586DF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682D-ABDB-42CE-B4C7-50B66DBAF1E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BE8E5-A0B1-4C86-B16E-80CD0EF2371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BF947-AD9C-4334-A165-D668058ACDE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936A6-765A-41C2-B190-D77C529000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475B1-E92C-4F14-B6B7-7415A4D3022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FB862-E1D8-40C7-BE72-E0F207EA1FA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1EA8F-8C8F-4FC0-9531-5954E336F07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23351-2014-4949-A542-32F2402968D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D24A-77FA-46CD-8C06-E942B2A805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C6B5-6D77-416D-A902-3D30825C89E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EDF7-1E79-498A-9201-E65DB1411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CFED81-9564-4B95-B2B1-855CA5B800F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5C4132-61A2-4E2E-B4D7-ACE68B36F2D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B15F76-8185-4388-B448-9D5CC5681CB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69E6B3-78F3-4181-8C02-DB7320D6F6A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687E8E-BF72-44FE-8B60-1EB02BF6C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43C0F0-EDC6-4EB8-A57F-D1E7DD97DC8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856998-3592-4612-8EE0-B3F741BCFB2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91BCA3-64C9-4C2D-AA4C-E94DECDEFBA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2A8A4F-0507-4666-AEA8-1ABB90F1AF3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8097F8-86AB-476A-A4A3-298C645684A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7D7C33-0447-41AC-BD87-BE047A7BCB3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15FD9F-7421-4E3C-AB50-EE390263140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D24674-B214-4ECE-BB1C-EE4B23C5AD0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8. Η Υποδομή της Σχολικής Τάξης</a:t>
            </a:r>
            <a:br>
              <a:rPr sz="3600"/>
            </a:b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[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Δημοτικό Σχολείο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 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Η  Υποδομή 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 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3. Ο Σχολικός Χώρος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Ποιότητα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1:30Z</dcterms:modified>
  <cp:revision>159</cp:revision>
  <dc:subject/>
  <dc:title>Παρουσίαση του PowerPoint</dc:title>
</cp:coreProperties>
</file>